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</a:rPr>
              <a:t>СТРИДОР </a:t>
            </a:r>
            <a:br>
              <a:rPr sz="4000"/>
            </a:br>
            <a:br>
              <a:rPr sz="40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881000" y="4724280"/>
            <a:ext cx="491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ф. др Гордана Кости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44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44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ЛАСИФИК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sr-CS" sz="3200" spc="-1" strike="noStrike">
                <a:solidFill>
                  <a:srgbClr val="c00000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Laryngitis subglotica ac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2. Laryngitis spas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3. Laryngotracheobronch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4. Epiglot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40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40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Laryngitis subglotica ac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32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д 3 месеца до 5 г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- мушки п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- вируси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RSV; parainfluenca,infl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- често рецидив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- породична оптереће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- блага клиничка сл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40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40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901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ahoma"/>
              </a:rPr>
              <a:t>2.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Laryngitis spasma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од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годин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атопијска и неуропатска конституц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без фебрилно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често рецидив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породична оптереће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нагло настаје, ноћу кашаљ као лавеж пса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одлично реагује на инхалације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топлом па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0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40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40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 Laryngotracheobronchitis</a:t>
            </a:r>
            <a:r>
              <a:rPr b="1" lang="sr-CS" sz="28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2400" spc="-1" strike="noStrike">
                <a:solidFill>
                  <a:srgbClr val="c00000"/>
                </a:solidFill>
                <a:latin typeface="Times New Roman"/>
              </a:rPr>
              <a:t>C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 2  до 4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мушки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вируси (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</a:rPr>
              <a:t>RSV; parainfluenca,infl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настаје постепено 5-7 дан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предходе знаци инфекције горњих респ.пут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блага фебрилност до високе фебри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 дуже траје боле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остали чланови породице имају благу респ.инф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РТГ – субглотично сужење-,,знак торња,,ПАсним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68200" y="1168200"/>
            <a:ext cx="6413400" cy="609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c00000"/>
                </a:solidFill>
                <a:latin typeface="Arial"/>
              </a:rPr>
              <a:t>PA </a:t>
            </a:r>
            <a:r>
              <a:rPr b="1" lang="sr-CS" sz="2500" spc="-1" strike="noStrike">
                <a:solidFill>
                  <a:srgbClr val="c00000"/>
                </a:solidFill>
                <a:latin typeface="Arial"/>
              </a:rPr>
              <a:t>радиографија врат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1447920" y="1093680"/>
            <a:ext cx="6248160" cy="47642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1332000" y="5950080"/>
            <a:ext cx="3047760" cy="571320"/>
          </a:xfrm>
          <a:prstGeom prst="rect">
            <a:avLst/>
          </a:prstGeom>
          <a:solidFill>
            <a:srgbClr val="f1f9f9"/>
          </a:solidFill>
          <a:ln w="9360">
            <a:solidFill>
              <a:srgbClr val="d6ec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драво де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4500720" y="5950080"/>
            <a:ext cx="3286080" cy="571320"/>
          </a:xfrm>
          <a:prstGeom prst="rect">
            <a:avLst/>
          </a:prstGeom>
          <a:solidFill>
            <a:srgbClr val="f1f9f9"/>
          </a:solidFill>
          <a:ln w="9360">
            <a:solidFill>
              <a:srgbClr val="d6ec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знак торња</a:t>
            </a:r>
            <a:r>
              <a:rPr b="1" lang="sr-CS" sz="2400" spc="-1" strike="noStrike">
                <a:solidFill>
                  <a:srgbClr val="000000"/>
                </a:solidFill>
                <a:latin typeface="Arial Black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Straight Arrow Connector 9"/>
          <p:cNvCxnSpPr/>
          <p:nvPr/>
        </p:nvCxnSpPr>
        <p:spPr>
          <a:xfrm flipH="1" flipV="1">
            <a:off x="6095520" y="3504960"/>
            <a:ext cx="610560" cy="838800"/>
          </a:xfrm>
          <a:prstGeom prst="straightConnector1">
            <a:avLst/>
          </a:prstGeom>
          <a:ln w="28440">
            <a:solidFill>
              <a:srgbClr val="bbe0e3"/>
            </a:solidFill>
            <a:miter/>
            <a:tailEnd len="med" type="arrow" w="med"/>
          </a:ln>
        </p:spPr>
      </p:cxnSp>
      <p:sp>
        <p:nvSpPr>
          <p:cNvPr id="84" name="Rectangle 7"/>
          <p:cNvSpPr/>
          <p:nvPr/>
        </p:nvSpPr>
        <p:spPr>
          <a:xfrm>
            <a:off x="4716360" y="62064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Laryngotracheobronch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802560" y="18900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20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20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udio 1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6553080" cy="533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c00000"/>
                </a:solidFill>
                <a:latin typeface="Times New Roman"/>
              </a:rPr>
              <a:t>Процена тежине круп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5680" y="1285920"/>
            <a:ext cx="92919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2060"/>
                </a:solidFill>
                <a:latin typeface="Times New Roman"/>
              </a:rPr>
              <a:t>Л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Промукао кашаљ (попут лавежа п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Без чујног стрид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Без или лаке супрастерналне или интеркосталне ре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2060"/>
                </a:solidFill>
                <a:latin typeface="Times New Roman"/>
              </a:rPr>
              <a:t>Средње теж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Учестао промукли каша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Стридор чуј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Супрастерналне и стерналне ретракције, без или са лаком </a:t>
            </a:r>
            <a:r>
              <a:rPr b="0" lang="sr-C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агитац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2060"/>
                </a:solidFill>
                <a:latin typeface="Times New Roman"/>
              </a:rPr>
              <a:t>Теж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Учестао промукли каша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Изражен инспираторни, могућ експираторни  стрид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Значајне стерналне ретракције, агитација и дистр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2060"/>
                </a:solidFill>
                <a:latin typeface="Times New Roman"/>
              </a:rPr>
              <a:t>Претећа 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Кашаљ попут лавежа пса (не тако проминента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Стридор чујан (понекад се тешко чуј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    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Стерналне ретракције (не тако упадљиве), летаргија или </a:t>
            </a:r>
            <a:r>
              <a:rPr b="0" lang="sr-C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конф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c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Times New Roman"/>
              </a:rPr>
              <a:t>Процена тежине круп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</a:rPr>
              <a:t>Croup score (0-17) 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</a:rPr>
              <a:t>Westlay and Godden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Стридор (0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Кашаљ(0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Ретракција (0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Респираторни Дистрес (0-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Сатурација кисеоником (0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</a:rPr>
              <a:t>95-100 %;92-94%;89-91%;86-88% ; &lt; 86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36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36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ahoma"/>
              </a:rPr>
              <a:t>4.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Epiglot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 узраст</a:t>
            </a:r>
            <a:r>
              <a:rPr b="1" lang="sr-CS" sz="24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д 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до 7 годи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бактерије (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Haemophilus influence;St.pneum.)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висок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ебрилност, дисфагија, прострац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интоксицираност, позиција тронож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- нагло настаје, диспнеја , цијаноза, респирато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дистрес, знаци респираторне инсуф. ,шок,смр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РТГ горњих д.п.( латерално)– знак палц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морталитет 5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8400" y="399960"/>
            <a:ext cx="6667200" cy="6058080"/>
          </a:xfrm>
          <a:prstGeom prst="rect">
            <a:avLst/>
          </a:prstGeom>
          <a:ln w="0">
            <a:noFill/>
          </a:ln>
        </p:spPr>
      </p:pic>
      <p:cxnSp>
        <p:nvCxnSpPr>
          <p:cNvPr id="97" name="Gerade Verbindung mit Pfeil 5"/>
          <p:cNvCxnSpPr/>
          <p:nvPr/>
        </p:nvCxnSpPr>
        <p:spPr>
          <a:xfrm flipV="1">
            <a:off x="2571840" y="1856880"/>
            <a:ext cx="429120" cy="2865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98" name="Rectangle 4"/>
          <p:cNvSpPr/>
          <p:nvPr/>
        </p:nvSpPr>
        <p:spPr>
          <a:xfrm>
            <a:off x="1551600" y="270972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3300"/>
                </a:solidFill>
                <a:latin typeface="Times New Roman"/>
              </a:rPr>
              <a:t>знак пал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9280" y="58053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</a:rPr>
              <a:t>Epiglot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Audio 1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08720" cy="6098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Times New Roman"/>
              </a:rPr>
              <a:t>Диф.дг. </a:t>
            </a:r>
            <a:r>
              <a:rPr b="1" lang="sr-Latn-CS" sz="2900" spc="-1" strike="noStrike">
                <a:solidFill>
                  <a:srgbClr val="000000"/>
                </a:solidFill>
                <a:latin typeface="Times New Roman"/>
              </a:rPr>
              <a:t>:   Croup</a:t>
            </a:r>
            <a:r>
              <a:rPr b="1" lang="sr-Latn-CS" sz="2900" spc="-1" strike="noStrike">
                <a:solidFill>
                  <a:srgbClr val="c00000"/>
                </a:solidFill>
                <a:latin typeface="Times New Roman"/>
              </a:rPr>
              <a:t>     vs    </a:t>
            </a:r>
            <a:r>
              <a:rPr b="1" lang="sr-CS" sz="2900" spc="-1" strike="noStrike">
                <a:solidFill>
                  <a:srgbClr val="c00000"/>
                </a:solidFill>
                <a:latin typeface="Times New Roman"/>
              </a:rPr>
              <a:t>       </a:t>
            </a:r>
            <a:r>
              <a:rPr b="1" lang="sr-Latn-CS" sz="2900" spc="-1" strike="noStrike">
                <a:solidFill>
                  <a:srgbClr val="c00000"/>
                </a:solidFill>
                <a:latin typeface="Times New Roman"/>
              </a:rPr>
              <a:t> Epiglottiti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-360" y="1052280"/>
            <a:ext cx="4343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Чес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3 месец-3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иру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з про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бро опште с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з темп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з салив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тридор израж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шаљ попут лавежа 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мукл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утање норм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тко витално угрож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аје пар с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исок ризик рециди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ез профилак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1640" y="907920"/>
            <a:ext cx="4267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Рет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3-7. годин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Бактерија (Хаем.инф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Продроми 12-24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Лоше опште с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Висока фебр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Хиперсалив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Стридор т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Без каш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Тих гл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Отежано гут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Витално угрож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Траје пар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Без ризика за рецид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00000"/>
                </a:solidFill>
                <a:latin typeface="Times New Roman"/>
              </a:rPr>
              <a:t>Профилакса:вак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1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1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10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1000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ТРИ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228708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новни показатељ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опструкције горњих дисајних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путе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ец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осетљивија због анатомских особе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глава већа у односу на 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рскави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недовољно развиј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(склоност колапс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врат мекан - нарочито проблем при лежању на леђ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ларингс и трахеја мањег пречника у односу на одрас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обиље везивног ткива у том преде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велики аденоид и тонзил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28800" y="380880"/>
            <a:ext cx="539568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557360"/>
            <a:ext cx="82296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51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Треба избегавати све радње које додатно уземиравају болесни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spcAft>
                <a:spcPts val="1800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Визуелизација може довести до рефлексног ларингоспазма, РД, вазовагалне епизоде и КВС колап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Times New Roman"/>
              </a:rPr>
              <a:t>Не саветује се ни једна дијагностичка процедура пре обезбеђивања проходности дисајног пута 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315200" cy="9907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5235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1.  Смирити 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ет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халације топлом паром са или инхалација физиолошким раств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Кортикостерои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Dexamethason (t1/2- 36-45h)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15 mg -0,6mg/kg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ili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rednisolon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1-2mg/kg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er os/i.m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bulizovani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Budesonid (Pulmicort)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2mg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nerazblaž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Кортикостероиди смањују инфламацију и оштећење ћелија. Нежељено дејство:имуносупресија чиме се потенцирају инфeктивнe комплiкацiј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рeпорука: јeднодозна тeрапiја у амбулантнiм условимa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sr-Latn-CS" sz="2000" spc="-1" strike="noStrike">
                <a:solidFill>
                  <a:srgbClr val="c00000"/>
                </a:solidFill>
                <a:latin typeface="Times New Roman"/>
              </a:rPr>
              <a:t>Код негативног одговора на прву  дозу КС нема препорука за поновљену  дoзу, индикoвана је хoспитализaциј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973080" y="549000"/>
            <a:ext cx="6019920" cy="647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Arial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447560"/>
            <a:ext cx="83707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4.  Racemski adrenal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5ml  2,25%  + 2,5ml 0,9% NaCl inh. ili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L adrenalin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:1000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l/kg,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max. 5ml in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Дејство наступа за 30 мин али се губи за мање од 2х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оновљена примена адреналина смањује потребу за интубaц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Кисеоник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ндикован код дец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тешким крупом и хипоксијом (SO2&lt;92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Антибиотиц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 примењују само ако еволуција указује на епиглотити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Cefotaxi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eftriaxon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100мг/кг 1x и.в., 5-7 дана ил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mpicilin +Sulbak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ндотрахеална интуб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хе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9.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ХВАЛА НА ПАЖЊ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5508720" y="3213000"/>
            <a:ext cx="2333520" cy="2809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117" name="Audio 1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9730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ТРИД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773360"/>
            <a:ext cx="932508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Дефинициј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2400" spc="-1" strike="noStrike">
                <a:solidFill>
                  <a:srgbClr val="ff3300"/>
                </a:solidFill>
                <a:latin typeface="Times New Roman"/>
              </a:rPr>
              <a:t>Груб, високотонски респираторни звук, најчешће инспираторни,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3300"/>
                </a:solidFill>
                <a:latin typeface="Times New Roman"/>
              </a:rPr>
              <a:t>може бити и бифазичан  – знак је  опструкције горњих дисајних путе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раћен је  крупалним кашљ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тридор може 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КУР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РЗИСТЕНТНИ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ТРИДОР </a:t>
            </a:r>
            <a:r>
              <a:rPr b="1" lang="sr-CS" sz="3600" spc="-1" strike="noStrike">
                <a:solidFill>
                  <a:srgbClr val="c00000"/>
                </a:solidFill>
                <a:latin typeface="Times New Roman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539640" y="256536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РЕКУРЕНТНИ  СТРИДО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лергијски (спастични кру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спираторне инфекциј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90%  је инфективне етиологи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најчешће вирусн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спираторне инфек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деце са асимптоматским сужењем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арингомалациј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ИДОР </a:t>
            </a:r>
            <a:r>
              <a:rPr b="1" lang="sr-CS" sz="3200" spc="-1" strike="noStrike">
                <a:solidFill>
                  <a:srgbClr val="c00000"/>
                </a:solidFill>
                <a:latin typeface="Times New Roman"/>
              </a:rPr>
              <a:t>ЕТИОЛО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6868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ПЕРЗИСТЕНТНИ  СТР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Ларингеална опстр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ларингомалација,тумори, цисте, парализе гласних жица, страно т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Трахеобронхијалне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трахеомалација, субглотичне стенозе, тумори, трахеоезофагеална фистул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Спољашњи притис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медијастинални тумори, васкуларни ринг, увећање тиреоидеје, цисте, езофагеално страно те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стал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гастроезофагеални рефлукс, макроглосиј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Pierre Robin Sy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хистерични стридор,хипокалцеми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ИДОР – клиничка слика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односу на место промене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Супраглот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ис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одужен инспирију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инсп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ратор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стридо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игушен плач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/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ли г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лотис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зражен инсп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ратор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стридо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ромукао глас и кашаљ попут лавежа 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Субглоти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инсп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ратор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пи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тор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стридор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каша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са металним призву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(интраторакални део трахе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СТРИДОР – 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Деца заузимају карактеристичан положај са хиперекстендираним врат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исфагијом и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хиперсаливацијом 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Домини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опструкциј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горњих дисајних путев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sr-CS" sz="2400" spc="-1" strike="noStrike">
                <a:solidFill>
                  <a:srgbClr val="ff3300"/>
                </a:solidFill>
                <a:latin typeface="Times New Roman"/>
              </a:rPr>
              <a:t>РАЗЛ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опструкције доњих дисајних пут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дужен и отежан експиријум са експираторни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wheezingom,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з ангажовање помоћне дисајне мускулатуре упућује на опструкцију малих дисaјних путев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сервацијом детета у неколко секунди можемо да се орјентишемо о месту опструкциј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9672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36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36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36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4680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Круп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реч шкотског порекл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)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значи “шиштање” или “крештање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Подразумева сваку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акутну упалну опструк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ларинкса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,трахеје и бронх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која се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анифест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Инспираторним стридором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Промуклошћ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Кашљем попут лавежа псa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није се овај синдром користио код појаве дифтеричн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ларингитиса а данас најчешће код вирусног ларинготрахеити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JM 2008:358:384-9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4400" spc="-1" strike="noStrike">
                <a:solidFill>
                  <a:srgbClr val="c00000"/>
                </a:solidFill>
                <a:latin typeface="Times New Roman"/>
              </a:rPr>
              <a:t>CROUP</a:t>
            </a:r>
            <a:r>
              <a:rPr b="1" i="1" lang="sr-CS" sz="44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1" i="1" lang="sr-Latn-CS" sz="4400" spc="-1" strike="noStrike">
                <a:solidFill>
                  <a:srgbClr val="c00000"/>
                </a:solidFill>
                <a:latin typeface="Times New Roman"/>
              </a:rPr>
              <a:t>sindr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тиолог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 инфекције: вирусне и бактериј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 алергијска манифес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 механич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едиспонирајући фактори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узра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п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 сез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- генетски чиниоц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Korisnik</cp:lastModifiedBy>
  <dcterms:modified xsi:type="dcterms:W3CDTF">2020-09-29T14:44:06Z</dcterms:modified>
  <cp:revision>93</cp:revision>
  <dc:subject/>
  <dc:title>Slide 1</dc:title>
</cp:coreProperties>
</file>