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29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30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AC42-659B-4EA7-8E89-8AC5C5EAD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5BDE-FEF7-4021-94E8-A0E4EE89E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rosečna starost 10,5 meseci, 50% slučajeva u 1. godini. Kliničke manifestacije milijarne TB  uključuju pluća, slezinu, kostnu srž. Simptomi bolesti su nespecifični: kašalj (72%), groznica (61%), gubitak apetita i tećine (40%), dijareja i povraćanje (33%). Glavni znaci su hepatomegalija (82%), splenomegalija (54%), limfadenopatija (46%) i pireksija (39%). Kao i adulti, deca sa milijarnom TB su smer negativni. Sa progresijom plućne bolesti moguć je respiratorni  distres, hipoksija i pneumotoraks ili pneumomedijastinum. Znaci ili simptomi meningitisa ili peritonitisa se javljaju u oko 20 do 40 % pacijenata. Horioidna tuberkuloza se javlja u u 13 do 87% pacijenata sa uznapredovalom bolešć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TB meningitis : 3 stadijuma : rani (nespecificni simptomi), intermedijerni (znaci meningitisa, paralize nerava III, VI i VII, letargija) i uznapredovali stadijum (stupor, koma, velike pareze i paralize, sistemski toksični zna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E94F-1025-464A-84D9-5992462C7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FFBD-327C-44C0-AF25-D70FA169B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70FE-B945-46F3-8923-DED095560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-9553680" y="-6470640"/>
            <a:ext cx="19107360" cy="14330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2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7376-4B2A-482A-B116-F6B0F3F46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0" y="-6470640"/>
            <a:ext cx="1440" cy="1433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0F01-CFD3-4FF8-BA01-67A70A77D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0" y="-6470640"/>
            <a:ext cx="1440" cy="1433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D40B-1BE0-4E24-9E2D-FD174B30A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198C-1F99-4BCB-8BD2-D7F91A2C0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680" y="4680"/>
            <a:ext cx="1800" cy="143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E621-D9D8-4550-BBCA-797AAF355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EAB6-D394-44EB-B513-B5DA1BD75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uzina i intenzitet kontakta uti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ču na rizik za infekciju više nego sama infektivnost M. Tbc. Nakon infekcije šansa da neko dobije bolest eksponencijalno opada sa vremenom. 50% pedijatrijskih slučajeva su deca do 5. godine.  Rizicne grupe: DM, HIV infekcija, pacijenti na imunosupresivnoj (KS) i hemioterapiji, losa nutricija, deficijencija vitamina D, alkoholiz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FFEF-76EA-4892-908B-C97C77D0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3FFB-C0C4-46FF-9566-4C511E45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C376-DBA3-48D7-8A83-84236E3C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40D9-B7FE-4160-A5BD-BD78E7BA4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917-61CD-4DB6-81E0-60EA1833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569-F653-4F95-B654-B147FD6C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9B2-B74A-4A97-AB2D-CCF29B51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489F-2098-4595-BAA7-ACF48269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D6B1-B997-4AAE-A6E1-3009E2B0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C20F-8CFF-4509-B36E-A2BFCF88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6EB5-8523-4FD4-98FF-4035EF28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DE8-CAD7-4FCB-BBE9-645C67A5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D716-B7E3-49B5-A13F-20EF8818E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99700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УБЕРКУЛОЗА РЕСПИРАТОРНОГ СИСТЕМА У ДЕЦ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178000" y="4724280"/>
            <a:ext cx="43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оф. др Гордана Кост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ЕТИОЛОГИЈА И ПА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ледећа фаза зависи од јачине ИМУНОГ ОДГОВОРА домаћина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д већине особа са очуваним имуним одговором процес се ЗАУСТАВЉА на овом нив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једини бацили остају успавани –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ЛАТЕНТНА ИНФЕК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МАРНА ТУБРЕРКУЛОЗА –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ада имуни систем није довољно снажан да заустави размножавање, примарна ТБ се развија у року од неколико месец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ОСТПРИМАРНА ТУБЕРКУЛОЗА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оже се развити неколико година после примарне инфекције као резултат реактивације латентног ТБ жаришта или реинфек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РИЗИК ОД ИНФЕКЦИЈЕ  ТБ И ПРОГРЕСИЈА У АКТИВНУ БОЛ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ужа експозициј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нфек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ања запремин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аједничког прост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едостатак вентилациј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  директног сунчевог свет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ећи број микобактер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Отпорност према ТБ – најмања код нн и одојчеда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тпорност према ТБ од 5 год до пубертета најве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,,златан имунитет,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Генетски полиморфизам (синтез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INF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IL-12,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* У трудноћи и са старошћу поново расте ризик за Т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РИЗИК ОД ИНФЕКЦИЈЕ  ТБ И ПРОГРЕСИЈА У АКТИВНУ БОЛ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ИНФЕКЦИЈА СА М.Т.  НЕ ВОДИ УВЕК У АКТИВНУ ТБ БОЛЕСТ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д већине инфицираних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(око 90%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икада с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е развиј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Б болест, под условом да њихов имуни систем н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арушен ХИВ инфекцијом или неким другим ста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тивна ТБ се развија онда када имуни систем не мо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ише да задржи бацил под контролом и када он поч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еликом брзином да се размнож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изик је највећи током прв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ве годи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од инфекц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  временом оп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изик да ће се у току живота разболети од активне Т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д особ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а очуваним имунитето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износ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 код особ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фицираних ХИВ-о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износ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304920" y="2438280"/>
            <a:ext cx="8534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ажно је разликовати ТБ инфекцију од ТБ болес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од оба стања се доказује ТБ инфекција ППД-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али у латентној инфекцији недостају клинич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диолошки и микробиолошки докази болести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50 %  деце су асимптоматски пациј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ећина деце има плућну симптоматолог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Екстрапулмоналну симптоматологију има  25 до 35 %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РИЗИК ОД ИНФЕКЦИЈЕ  ТБ И ПРОГРЕСИЈА У АКТИВНУ БОЛ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Times New Roman"/>
              </a:rPr>
              <a:t>ЛОКАЛИЗАЦИЈА Т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лућна (пулмонална) ТБ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- се односи на болест која захвата плућни паренх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уберкулоз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интраторакалних л.жлезд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или туберкулозн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леурални излив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, без радиолошки видљивих промена у плућима представља случај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екстрапулмоналне ТБ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Ванплућна ( екстрапулмонална ) ТБ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- се односи на сваки други орган осим на плућа (плеура, лимфне жлезде, абдомен, генитоуринарни тракт, кожа, зглобови и кости, менинг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ацијент са пулмоналном и екстрапулмоналном ТБ се класификује као пулмонална Т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дложени режими лечења су исти, независно од локализ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начај тачне локализације је у томе да се евидентира и извести о могућој инфективности пациј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ИМПТОМИ ТУБЕРКУЛО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ЕСПИРАТОРНИ СИМПТО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ашаљ дужи од 2-3 неде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олови у груд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тежано д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кашљавање к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РУГИ СИМПТО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убитак апет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рзо замар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оз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убитак на теж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оћно зној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0492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ТУБЕРКУЛОЗНИ ИЗЛИВ</a:t>
            </a:r>
            <a:br>
              <a:rPr sz="3200"/>
            </a:b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hr-HR" sz="3200" spc="-1" strike="noStrike">
                <a:solidFill>
                  <a:srgbClr val="000000"/>
                </a:solidFill>
                <a:latin typeface="Times New Roman"/>
              </a:rPr>
              <a:t>leuritis exudativa tuberculo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1371240"/>
            <a:ext cx="9524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Инциденца-око 16% свих изл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Најчешће без видљивих промена у паренхиму плу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Извор-тбц промене близу плеуре или субкортикално у плућ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КЛИНИЧКА СЛ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-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-диспне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-каша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ФИЗИКАЛНИ НАЛА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ИНСПЕКЦИЈА (хемиторакс заостаје при дубоким респирацијам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ПАЛПАЦИЈА (ФП је угаш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ПЕРКУСИЈ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потмуо до тмуо зву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АУСКУЛТАЦИЈА</a:t>
            </a:r>
            <a:r>
              <a:rPr b="1" lang="hr-HR" sz="2400" spc="-1" strike="noStrike">
                <a:solidFill>
                  <a:srgbClr val="92d050"/>
                </a:solidFill>
                <a:latin typeface="Times New Roman"/>
              </a:rPr>
              <a:t> -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</a:rPr>
              <a:t>ослабљено до нечујно дис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Content Placeholder 3" descr="SAM_0490.JPG"/>
          <p:cNvPicPr/>
          <p:nvPr/>
        </p:nvPicPr>
        <p:blipFill>
          <a:blip r:embed="rId1"/>
          <a:stretch/>
        </p:blipFill>
        <p:spPr>
          <a:xfrm>
            <a:off x="1447920" y="1600200"/>
            <a:ext cx="301464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Content Placeholder 3" descr="SAM_0507.JPG"/>
          <p:cNvPicPr/>
          <p:nvPr/>
        </p:nvPicPr>
        <p:blipFill>
          <a:blip r:embed="rId2"/>
          <a:stretch/>
        </p:blipFill>
        <p:spPr>
          <a:xfrm>
            <a:off x="5638680" y="2133720"/>
            <a:ext cx="291636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3500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Милијарна туберкуло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530280" y="1339920"/>
            <a:ext cx="3827520" cy="4465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4546440" y="1339920"/>
            <a:ext cx="3986280" cy="44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ТБ лобарна пнеумони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971640" y="159228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3564000" y="1592280"/>
            <a:ext cx="2087640" cy="2162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6119640" y="1592280"/>
            <a:ext cx="2089440" cy="2162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2087640" cy="2303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5"/>
          <a:stretch/>
        </p:blipFill>
        <p:spPr>
          <a:xfrm>
            <a:off x="3564000" y="4149720"/>
            <a:ext cx="2087640" cy="2232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6"/>
          <a:stretch/>
        </p:blipFill>
        <p:spPr>
          <a:xfrm>
            <a:off x="6119640" y="4149720"/>
            <a:ext cx="208944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533520" y="380880"/>
            <a:ext cx="8229600" cy="11430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ТУБЕРКУЛОЗА (ТБ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560" y="2057400"/>
            <a:ext cx="9372600" cy="4525920"/>
          </a:xfrm>
          <a:prstGeom prst="rect">
            <a:avLst/>
          </a:prstGeom>
          <a:solidFill>
            <a:srgbClr val="ffffff">
              <a:alpha val="66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Заразна болест узрокована бацил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ycobacterium  tuberculosis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(М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(Robert Koch 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Нобелова награда  за медицину 1905 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која у првом реду погађа бронхопулмонал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систем, али и све друге орг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213920"/>
            <a:ext cx="8697960" cy="9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Компликације </a:t>
            </a: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ТБ лимфних жлезд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046240" cy="2500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2198520" cy="2728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3"/>
          <a:stretch/>
        </p:blipFill>
        <p:spPr>
          <a:xfrm>
            <a:off x="6804000" y="3357720"/>
            <a:ext cx="2273400" cy="2879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4"/>
          <a:stretch/>
        </p:blipFill>
        <p:spPr>
          <a:xfrm>
            <a:off x="4572000" y="2925720"/>
            <a:ext cx="2197080" cy="28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ИЈАГНОЗА Т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нам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зикални прегле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уберкулинска кожна пр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диографија плу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икроскопија спутума на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РБ ( 3 )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(*ацидоалкохолорезистентан бацил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ултивисање бакте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цена лека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ИЈАГНОЗА Т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нам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- епидемиолошка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ажи се контакт са оболели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респираторни и други симптоми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</a:rPr>
              <a:t>Физикални прегле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често неспецифича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, t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;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 на плућима уред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Erythema nodosum; Fliktenulozni konjuktiv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уберкулинска кожна про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antoux test (PPD) 0,1ml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чишћен протеински дериват јачине 3 или 10 туб.је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9" descr="P1000157"/>
          <p:cNvPicPr/>
          <p:nvPr/>
        </p:nvPicPr>
        <p:blipFill>
          <a:blip r:embed="rId1"/>
          <a:stretch/>
        </p:blipFill>
        <p:spPr>
          <a:xfrm>
            <a:off x="609480" y="2198520"/>
            <a:ext cx="3733920" cy="3745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2" descr="P1000159"/>
          <p:cNvPicPr/>
          <p:nvPr/>
        </p:nvPicPr>
        <p:blipFill>
          <a:blip r:embed="rId2"/>
          <a:stretch/>
        </p:blipFill>
        <p:spPr>
          <a:xfrm>
            <a:off x="5029200" y="2209680"/>
            <a:ext cx="3733920" cy="3745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990720" y="685800"/>
            <a:ext cx="731520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2800" spc="-1" strike="noStrike">
                <a:solidFill>
                  <a:srgbClr val="333399"/>
                </a:solidFill>
                <a:latin typeface="Times New Roman"/>
                <a:ea typeface="Arial Unicode MS"/>
              </a:rPr>
              <a:t>ТУБЕРКУЛИНСКИ КОЖНИ ТЕСТ</a:t>
            </a:r>
            <a:r>
              <a:rPr b="1" lang="sr-CS" sz="28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 </a:t>
            </a:r>
            <a:r>
              <a:rPr b="1" lang="sr-Latn-CS" sz="3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(PP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500800" y="6286680"/>
            <a:ext cx="307188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Latn-CS" sz="1800" spc="-1" strike="noStrike">
                <a:solidFill>
                  <a:srgbClr val="002060"/>
                </a:solidFill>
                <a:latin typeface="Arial"/>
                <a:ea typeface="Arial Unicode MS"/>
              </a:rPr>
              <a:t>Sokal JE. NEJM;197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81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3333"/>
                </a:solidFill>
                <a:latin typeface="Times New Roman"/>
              </a:rPr>
              <a:t>PP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29920" y="857160"/>
            <a:ext cx="8327880" cy="56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2398"/>
              </a:lnSpc>
              <a:spcBef>
                <a:spcPts val="1800"/>
              </a:spcBef>
              <a:spcAft>
                <a:spcPts val="575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333366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333366"/>
                </a:solidFill>
                <a:latin typeface="Times New Roman"/>
              </a:rPr>
              <a:t>PPD </a:t>
            </a:r>
            <a:r>
              <a:rPr b="0" lang="en-GB" sz="2000" spc="-1" strike="noStrike">
                <a:solidFill>
                  <a:srgbClr val="333366"/>
                </a:solidFill>
                <a:latin typeface="Times New Roman"/>
              </a:rPr>
              <a:t>производи се од соја хуманог типа бацила TB RT 23 (PPD RT 23 јачине 2,</a:t>
            </a:r>
            <a:r>
              <a:rPr b="0" lang="en-GB" sz="2000" spc="-1" strike="noStrike">
                <a:solidFill>
                  <a:srgbClr val="ff3333"/>
                </a:solidFill>
                <a:latin typeface="Times New Roman"/>
              </a:rPr>
              <a:t>3</a:t>
            </a:r>
            <a:r>
              <a:rPr b="0" lang="en-GB" sz="2000" spc="-1" strike="noStrike">
                <a:solidFill>
                  <a:srgbClr val="333366"/>
                </a:solidFill>
                <a:latin typeface="Times New Roman"/>
              </a:rPr>
              <a:t>, 5 ili 10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800"/>
              </a:spcBef>
              <a:spcAft>
                <a:spcPts val="575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6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66"/>
                </a:solidFill>
                <a:latin typeface="Times New Roman"/>
              </a:rPr>
              <a:t>Код БЦГ невакцинисаних : за откривање особа које су већ заражене М.</a:t>
            </a:r>
            <a:r>
              <a:rPr b="0" lang="sr-CS" sz="2000" spc="-1" strike="noStrike">
                <a:solidFill>
                  <a:srgbClr val="333366"/>
                </a:solidFill>
                <a:latin typeface="Times New Roman"/>
              </a:rPr>
              <a:t>Т</a:t>
            </a:r>
            <a:r>
              <a:rPr b="0" lang="en-GB" sz="2000" spc="-1" strike="noStrike">
                <a:solidFill>
                  <a:srgbClr val="333366"/>
                </a:solidFill>
                <a:latin typeface="Times New Roman"/>
              </a:rPr>
              <a:t>; за откривање здравих особa које нису инфициране и немају BCG ожиљак ради имунизације БЦГ вакцином;у Дг и Ддг ТБ, за одређiвање шiрења ТБ зaрaзе међу стaновнiштвом -iндеx iнфeкцiј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800"/>
              </a:spcBef>
              <a:spcAft>
                <a:spcPts val="575"/>
              </a:spcAft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6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66"/>
                </a:solidFill>
                <a:latin typeface="Times New Roman"/>
              </a:rPr>
              <a:t>Позитивна реакција: &gt; 6 мм 72х након интрадермалног убризгавања туберкулина. Код невакцинисаних 10 мм: сумња на инфекцију. Код вакцинисаних &gt; 15 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800"/>
              </a:spcBef>
              <a:spcAft>
                <a:spcPts val="575"/>
              </a:spcAft>
              <a:buSzPct val="100000"/>
              <a:buBlip>
                <a:blip r:embed="rId4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6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66"/>
                </a:solidFill>
                <a:latin typeface="Times New Roman"/>
              </a:rPr>
              <a:t>Негативна туберкулинска проба: нема инфекције; или је у фази кaдa није створенa осетљiв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800"/>
              </a:spcBef>
              <a:spcAft>
                <a:spcPts val="575"/>
              </a:spcAft>
              <a:buSzPct val="100000"/>
              <a:buBlip>
                <a:blip r:embed="rId5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6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66"/>
                </a:solidFill>
                <a:latin typeface="Times New Roman"/>
              </a:rPr>
              <a:t>Свежи туберкулински реактори: негативне особе које након 2- 12 месеци постају позитивни најмање 10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800"/>
              </a:spcBef>
              <a:spcAft>
                <a:spcPts val="575"/>
              </a:spcAft>
              <a:buSzPct val="100000"/>
              <a:buBlip>
                <a:blip r:embed="rId6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336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66"/>
                </a:solidFill>
                <a:latin typeface="Times New Roman"/>
              </a:rPr>
              <a:t>Хипeррeактори: &gt;15 мм у било ком узрас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816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ff3333"/>
                </a:solidFill>
                <a:latin typeface="Times New Roman"/>
              </a:rPr>
              <a:t>PPD je +</a:t>
            </a:r>
            <a:r>
              <a:rPr b="1" lang="en-GB" sz="4800" spc="-1" strike="noStrike">
                <a:solidFill>
                  <a:srgbClr val="ff33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304920" y="1143000"/>
            <a:ext cx="8610480" cy="5257800"/>
          </a:xfrm>
          <a:prstGeom prst="roundRect">
            <a:avLst>
              <a:gd name="adj" fmla="val 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rmAutofit fontScale="95000"/>
          </a:bodyPr>
          <a:p>
            <a:pPr marL="85680">
              <a:lnSpc>
                <a:spcPct val="65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036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65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036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2060"/>
                </a:solidFill>
                <a:latin typeface="Arial"/>
                <a:ea typeface="Arial Unicode MS"/>
              </a:rPr>
              <a:t>≥ </a:t>
            </a:r>
            <a:r>
              <a:rPr b="1" lang="en-GB" sz="2200" spc="-1" strike="noStrike">
                <a:solidFill>
                  <a:srgbClr val="002060"/>
                </a:solidFill>
                <a:latin typeface="Arial"/>
                <a:ea typeface="Arial Unicode MS"/>
              </a:rPr>
              <a:t>5 mm</a:t>
            </a:r>
            <a:r>
              <a:rPr b="0" lang="en-GB" sz="2200" spc="-1" strike="noStrike">
                <a:solidFill>
                  <a:srgbClr val="002060"/>
                </a:solidFill>
                <a:latin typeface="Arial"/>
                <a:ea typeface="Arial Unicode MS"/>
              </a:rPr>
              <a:t>  </a:t>
            </a: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- ХИВ инфекциј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65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036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       </a:t>
            </a:r>
            <a:r>
              <a:rPr b="0" lang="sr-CS" sz="2200" spc="-1" strike="noStrike">
                <a:solidFill>
                  <a:srgbClr val="002060"/>
                </a:solidFill>
                <a:latin typeface="Times New Roman"/>
                <a:ea typeface="Arial"/>
              </a:rPr>
              <a:t>        </a:t>
            </a: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- директни контакт са ТБ иннфекцијо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65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036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2060"/>
                </a:solidFill>
                <a:latin typeface="Times New Roman"/>
                <a:ea typeface="Arial"/>
              </a:rPr>
              <a:t>          </a:t>
            </a: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- Абнормална радиографија плућа: фиброзне промен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65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036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         </a:t>
            </a: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- пацијенти са имуносупресијом</a:t>
            </a:r>
            <a:r>
              <a:rPr b="0" lang="sr-CS" sz="2200" spc="-1" strike="noStrike">
                <a:solidFill>
                  <a:srgbClr val="002060"/>
                </a:solidFill>
                <a:latin typeface="Times New Roman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65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036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65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036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65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036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≥ </a:t>
            </a:r>
            <a:r>
              <a:rPr b="1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10 mm</a:t>
            </a: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 - Особе из земаља са високом преваленцијом Т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65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036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               </a:t>
            </a: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- Болести које повећавају ризик за Т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65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036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               </a:t>
            </a: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- зависност од леко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65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036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               </a:t>
            </a: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- Здравствени радниц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65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036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               </a:t>
            </a: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- Деца &lt; 4 го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65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036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               </a:t>
            </a: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- Конверзија ППД (у последње 2 год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65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036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85680">
              <a:lnSpc>
                <a:spcPct val="65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l" pos="90360"/>
                <a:tab algn="l" pos="547560"/>
                <a:tab algn="l" pos="1004760"/>
                <a:tab algn="l" pos="1461960"/>
                <a:tab algn="l" pos="1919160"/>
                <a:tab algn="l" pos="2376360"/>
                <a:tab algn="l" pos="2833560"/>
                <a:tab algn="l" pos="3290760"/>
                <a:tab algn="l" pos="3747960"/>
                <a:tab algn="l" pos="4205160"/>
                <a:tab algn="l" pos="4662360"/>
                <a:tab algn="l" pos="5119560"/>
                <a:tab algn="l" pos="5576760"/>
                <a:tab algn="l" pos="6033960"/>
                <a:tab algn="l" pos="6491160"/>
                <a:tab algn="l" pos="6948360"/>
                <a:tab algn="l" pos="7405560"/>
                <a:tab algn="l" pos="7862760"/>
                <a:tab algn="l" pos="8319960"/>
                <a:tab algn="l" pos="8777160"/>
                <a:tab algn="l" pos="923436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≥</a:t>
            </a:r>
            <a:r>
              <a:rPr b="1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15 мм</a:t>
            </a:r>
            <a:r>
              <a:rPr b="0" lang="en-GB" sz="2200" spc="-1" strike="noStrike">
                <a:solidFill>
                  <a:srgbClr val="002060"/>
                </a:solidFill>
                <a:latin typeface="Times New Roman"/>
                <a:ea typeface="Arial Unicode MS"/>
              </a:rPr>
              <a:t>  Сви остали без ризик фактора за Т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3968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4400" spc="-1" strike="noStrike">
                <a:solidFill>
                  <a:srgbClr val="dc2300"/>
                </a:solidFill>
                <a:latin typeface="Times New Roman"/>
              </a:rPr>
              <a:t>Микроскопија и културе</a:t>
            </a:r>
            <a:r>
              <a:rPr b="1" lang="de-DE" sz="4400" spc="-1" strike="noStrike">
                <a:solidFill>
                  <a:srgbClr val="dc23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206360"/>
            <a:ext cx="8472600" cy="55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3362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dc2300"/>
                </a:solidFill>
                <a:latin typeface="Times New Roman"/>
              </a:rPr>
              <a:t>С</a:t>
            </a:r>
            <a:r>
              <a:rPr b="1" lang="en-GB" sz="2800" spc="-1" strike="noStrike">
                <a:solidFill>
                  <a:srgbClr val="dc2300"/>
                </a:solidFill>
                <a:latin typeface="Times New Roman"/>
              </a:rPr>
              <a:t>путум</a:t>
            </a:r>
            <a:r>
              <a:rPr b="1" lang="en-GB" sz="2800" spc="-1" strike="noStrike">
                <a:solidFill>
                  <a:srgbClr val="333366"/>
                </a:solidFill>
                <a:latin typeface="Times New Roman"/>
              </a:rPr>
              <a:t>: ДМП + култура (у 10-15% деце ДМП </a:t>
            </a:r>
            <a:r>
              <a:rPr b="1" lang="de-DE" sz="2800" spc="-1" strike="noStrike">
                <a:solidFill>
                  <a:srgbClr val="333366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333366"/>
                </a:solidFill>
                <a:latin typeface="Times New Roman"/>
              </a:rPr>
              <a:t>позитиван,30-40% културе), Bact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62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dc230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dc2300"/>
                </a:solidFill>
                <a:latin typeface="Times New Roman"/>
              </a:rPr>
              <a:t>Г</a:t>
            </a:r>
            <a:r>
              <a:rPr b="1" lang="en-GB" sz="2800" spc="-1" strike="noStrike">
                <a:solidFill>
                  <a:srgbClr val="dc2300"/>
                </a:solidFill>
                <a:latin typeface="Times New Roman"/>
              </a:rPr>
              <a:t>астрични аспират </a:t>
            </a:r>
            <a:r>
              <a:rPr b="1" lang="en-GB" sz="2800" spc="-1" strike="noStrike">
                <a:solidFill>
                  <a:srgbClr val="333366"/>
                </a:solidFill>
                <a:latin typeface="Times New Roman"/>
              </a:rPr>
              <a:t>(јутарња три узорка (&lt; 50% је позитивно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62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de-DE" sz="2800" spc="-1" strike="noStrike">
                <a:solidFill>
                  <a:srgbClr val="333366"/>
                </a:solidFill>
                <a:latin typeface="Times New Roman"/>
              </a:rPr>
              <a:t>А</a:t>
            </a:r>
            <a:r>
              <a:rPr b="1" lang="en-GB" sz="2800" spc="-1" strike="noStrike">
                <a:solidFill>
                  <a:srgbClr val="333366"/>
                </a:solidFill>
                <a:latin typeface="Times New Roman"/>
              </a:rPr>
              <a:t>лтернатива </a:t>
            </a:r>
            <a:r>
              <a:rPr b="1" lang="en-GB" sz="2800" spc="-1" strike="noStrike">
                <a:solidFill>
                  <a:srgbClr val="dc2300"/>
                </a:solidFill>
                <a:latin typeface="Times New Roman"/>
              </a:rPr>
              <a:t>назофарингеални аспират </a:t>
            </a:r>
            <a:r>
              <a:rPr b="1" lang="en-GB" sz="2800" spc="-1" strike="noStrike">
                <a:solidFill>
                  <a:srgbClr val="333366"/>
                </a:solidFill>
                <a:latin typeface="Times New Roman"/>
              </a:rPr>
              <a:t>(у било које доба да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62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333366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dc2300"/>
                </a:solidFill>
                <a:latin typeface="Times New Roman"/>
              </a:rPr>
              <a:t>И</a:t>
            </a:r>
            <a:r>
              <a:rPr b="1" lang="en-GB" sz="2800" spc="-1" strike="noStrike">
                <a:solidFill>
                  <a:srgbClr val="dc2300"/>
                </a:solidFill>
                <a:latin typeface="Times New Roman"/>
              </a:rPr>
              <a:t>ндуковани спут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62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dc2300"/>
                </a:solidFill>
                <a:latin typeface="Times New Roman"/>
              </a:rPr>
              <a:t> </a:t>
            </a:r>
            <a:r>
              <a:rPr b="1" lang="de-DE" sz="2800" spc="-1" strike="noStrike">
                <a:solidFill>
                  <a:srgbClr val="dc2300"/>
                </a:solidFill>
                <a:latin typeface="Times New Roman"/>
              </a:rPr>
              <a:t>Б</a:t>
            </a:r>
            <a:r>
              <a:rPr b="1" lang="en-GB" sz="2800" spc="-1" strike="noStrike">
                <a:solidFill>
                  <a:srgbClr val="dc2300"/>
                </a:solidFill>
                <a:latin typeface="Times New Roman"/>
              </a:rPr>
              <a:t>ронхоалвеоларни лав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62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3333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333366"/>
                </a:solidFill>
                <a:latin typeface="Times New Roman"/>
              </a:rPr>
              <a:t>ХИВ тест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62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3333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333366"/>
                </a:solidFill>
                <a:latin typeface="Times New Roman"/>
              </a:rPr>
              <a:t>P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62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RS" sz="2800" spc="-1" strike="noStrike">
                <a:solidFill>
                  <a:srgbClr val="333366"/>
                </a:solidFill>
                <a:latin typeface="Times New Roman"/>
              </a:rPr>
              <a:t>Quantiferon – </a:t>
            </a:r>
            <a:r>
              <a:rPr b="1" lang="sr-RS" sz="2800" spc="-1" strike="noStrike">
                <a:solidFill>
                  <a:srgbClr val="333366"/>
                </a:solidFill>
                <a:latin typeface="Times New Roman"/>
              </a:rPr>
              <a:t>ски тест – из кр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ИФЕРЕНЦИЈАЛНА 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http://t2.gstatic.com/images?q=tbn:ANd9GcRdEw2A2mtEQLZcqx19U3hYhxnxXJUU9wBe5z-JxlAHD3mW929w"/>
          <p:cNvPicPr/>
          <p:nvPr/>
        </p:nvPicPr>
        <p:blipFill>
          <a:blip r:embed="rId1"/>
          <a:stretch/>
        </p:blipFill>
        <p:spPr>
          <a:xfrm>
            <a:off x="0" y="1371600"/>
            <a:ext cx="2824200" cy="30002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9000" y="1988640"/>
            <a:ext cx="5486400" cy="441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рци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аркоид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рдиогени едем плу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дем плућа код урем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истемска болест вез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лућне фибро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терстицијска пнеумон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457200" y="533160"/>
            <a:ext cx="8221680" cy="10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6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ОБЛИЦИ ТБ У ДЕЦЕ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661760"/>
            <a:ext cx="876312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35000" indent="-135000">
              <a:lnSpc>
                <a:spcPct val="100000"/>
              </a:lnSpc>
              <a:spcBef>
                <a:spcPts val="1225"/>
              </a:spcBef>
              <a:buClr>
                <a:srgbClr val="ff3333"/>
              </a:buClr>
              <a:buFont typeface="Times New Roman"/>
              <a:buChar char="•"/>
              <a:tabLst>
                <a:tab algn="l" pos="260280"/>
                <a:tab algn="l" pos="717480"/>
                <a:tab algn="l" pos="1174680"/>
                <a:tab algn="l" pos="1631880"/>
                <a:tab algn="l" pos="2089080"/>
                <a:tab algn="l" pos="2546280"/>
                <a:tab algn="l" pos="3003480"/>
                <a:tab algn="l" pos="3460680"/>
                <a:tab algn="l" pos="3917880"/>
                <a:tab algn="l" pos="4375080"/>
                <a:tab algn="l" pos="4832280"/>
                <a:tab algn="l" pos="5289480"/>
                <a:tab algn="l" pos="5746680"/>
                <a:tab algn="l" pos="6203880"/>
                <a:tab algn="l" pos="6661080"/>
                <a:tab algn="l" pos="7118280"/>
                <a:tab algn="l" pos="7575480"/>
                <a:tab algn="l" pos="8032680"/>
                <a:tab algn="l" pos="8489880"/>
                <a:tab algn="l" pos="8947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Примарна Т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260280"/>
                <a:tab algn="l" pos="717480"/>
                <a:tab algn="l" pos="1174680"/>
                <a:tab algn="l" pos="1631880"/>
                <a:tab algn="l" pos="2089080"/>
                <a:tab algn="l" pos="2546280"/>
                <a:tab algn="l" pos="3003480"/>
                <a:tab algn="l" pos="3460680"/>
                <a:tab algn="l" pos="3917880"/>
                <a:tab algn="l" pos="4375080"/>
                <a:tab algn="l" pos="4832280"/>
                <a:tab algn="l" pos="5289480"/>
                <a:tab algn="l" pos="5746680"/>
                <a:tab algn="l" pos="6203880"/>
                <a:tab algn="l" pos="6661080"/>
                <a:tab algn="l" pos="7118280"/>
                <a:tab algn="l" pos="7575480"/>
                <a:tab algn="l" pos="8032680"/>
                <a:tab algn="l" pos="8489880"/>
                <a:tab algn="l" pos="8947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333366"/>
                </a:solidFill>
                <a:latin typeface="Times New Roman"/>
              </a:rPr>
              <a:t>Типични “примарни комплекс” (категорија </a:t>
            </a:r>
            <a:r>
              <a:rPr b="0" lang="sr-Latn-CS" sz="2400" spc="-1" strike="noStrike">
                <a:solidFill>
                  <a:srgbClr val="333366"/>
                </a:solidFill>
                <a:latin typeface="Times New Roman"/>
              </a:rPr>
              <a:t>III</a:t>
            </a:r>
            <a:r>
              <a:rPr b="0" lang="en-GB" sz="2400" spc="-1" strike="noStrike">
                <a:solidFill>
                  <a:srgbClr val="333366"/>
                </a:solidFill>
                <a:latin typeface="Times New Roman"/>
              </a:rPr>
              <a:t>)</a:t>
            </a:r>
            <a:r>
              <a:rPr b="0" lang="sr-Latn-CS" sz="2400" spc="-1" strike="noStrike">
                <a:solidFill>
                  <a:srgbClr val="33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260280"/>
                <a:tab algn="l" pos="717480"/>
                <a:tab algn="l" pos="1174680"/>
                <a:tab algn="l" pos="1631880"/>
                <a:tab algn="l" pos="2089080"/>
                <a:tab algn="l" pos="2546280"/>
                <a:tab algn="l" pos="3003480"/>
                <a:tab algn="l" pos="3460680"/>
                <a:tab algn="l" pos="3917880"/>
                <a:tab algn="l" pos="4375080"/>
                <a:tab algn="l" pos="4832280"/>
                <a:tab algn="l" pos="5289480"/>
                <a:tab algn="l" pos="5746680"/>
                <a:tab algn="l" pos="6203880"/>
                <a:tab algn="l" pos="6661080"/>
                <a:tab algn="l" pos="7118280"/>
                <a:tab algn="l" pos="7575480"/>
                <a:tab algn="l" pos="8032680"/>
                <a:tab algn="l" pos="8489880"/>
                <a:tab algn="l" pos="8947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333366"/>
                </a:solidFill>
                <a:latin typeface="Times New Roman"/>
              </a:rPr>
              <a:t>Унилатерална лимфаденопатија (категорија </a:t>
            </a:r>
            <a:r>
              <a:rPr b="0" lang="sr-Latn-CS" sz="2400" spc="-1" strike="noStrike">
                <a:solidFill>
                  <a:srgbClr val="333366"/>
                </a:solidFill>
                <a:latin typeface="Times New Roman"/>
              </a:rPr>
              <a:t>III</a:t>
            </a:r>
            <a:r>
              <a:rPr b="1" lang="en-GB" sz="2400" spc="-1" strike="noStrike">
                <a:solidFill>
                  <a:srgbClr val="33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260280"/>
                <a:tab algn="l" pos="717480"/>
                <a:tab algn="l" pos="1174680"/>
                <a:tab algn="l" pos="1631880"/>
                <a:tab algn="l" pos="2089080"/>
                <a:tab algn="l" pos="2546280"/>
                <a:tab algn="l" pos="3003480"/>
                <a:tab algn="l" pos="3460680"/>
                <a:tab algn="l" pos="3917880"/>
                <a:tab algn="l" pos="4375080"/>
                <a:tab algn="l" pos="4832280"/>
                <a:tab algn="l" pos="5289480"/>
                <a:tab algn="l" pos="5746680"/>
                <a:tab algn="l" pos="6203880"/>
                <a:tab algn="l" pos="6661080"/>
                <a:tab algn="l" pos="7118280"/>
                <a:tab algn="l" pos="7575480"/>
                <a:tab algn="l" pos="8032680"/>
                <a:tab algn="l" pos="8489880"/>
                <a:tab algn="l" pos="8947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333366"/>
                </a:solidFill>
                <a:latin typeface="Times New Roman"/>
              </a:rPr>
              <a:t>Лобарна или сегментна консолидација (категорија</a:t>
            </a:r>
            <a:r>
              <a:rPr b="1" lang="en-GB" sz="2400" spc="-1" strike="noStrike">
                <a:solidFill>
                  <a:srgbClr val="333366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333366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33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spcBef>
                <a:spcPts val="1225"/>
              </a:spcBef>
              <a:buClr>
                <a:srgbClr val="ff3333"/>
              </a:buClr>
              <a:buFont typeface="Times New Roman"/>
              <a:buChar char="•"/>
              <a:tabLst>
                <a:tab algn="l" pos="260280"/>
                <a:tab algn="l" pos="717480"/>
                <a:tab algn="l" pos="1174680"/>
                <a:tab algn="l" pos="1631880"/>
                <a:tab algn="l" pos="2089080"/>
                <a:tab algn="l" pos="2546280"/>
                <a:tab algn="l" pos="3003480"/>
                <a:tab algn="l" pos="3460680"/>
                <a:tab algn="l" pos="3917880"/>
                <a:tab algn="l" pos="4375080"/>
                <a:tab algn="l" pos="4832280"/>
                <a:tab algn="l" pos="5289480"/>
                <a:tab algn="l" pos="5746680"/>
                <a:tab algn="l" pos="6203880"/>
                <a:tab algn="l" pos="6661080"/>
                <a:tab algn="l" pos="7118280"/>
                <a:tab algn="l" pos="7575480"/>
                <a:tab algn="l" pos="8032680"/>
                <a:tab algn="l" pos="8489880"/>
                <a:tab algn="l" pos="8947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Акутна дисеминованаТБ (код деце&lt;5год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260280"/>
                <a:tab algn="l" pos="717480"/>
                <a:tab algn="l" pos="1174680"/>
                <a:tab algn="l" pos="1631880"/>
                <a:tab algn="l" pos="2089080"/>
                <a:tab algn="l" pos="2546280"/>
                <a:tab algn="l" pos="3003480"/>
                <a:tab algn="l" pos="3460680"/>
                <a:tab algn="l" pos="3917880"/>
                <a:tab algn="l" pos="4375080"/>
                <a:tab algn="l" pos="4832280"/>
                <a:tab algn="l" pos="5289480"/>
                <a:tab algn="l" pos="5746680"/>
                <a:tab algn="l" pos="6203880"/>
                <a:tab algn="l" pos="6661080"/>
                <a:tab algn="l" pos="7118280"/>
                <a:tab algn="l" pos="7575480"/>
                <a:tab algn="l" pos="8032680"/>
                <a:tab algn="l" pos="8489880"/>
                <a:tab algn="l" pos="8947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333366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333366"/>
                </a:solidFill>
                <a:latin typeface="Times New Roman"/>
              </a:rPr>
              <a:t>милијарна са или без менингитиса (категорија </a:t>
            </a:r>
            <a:r>
              <a:rPr b="0" lang="sr-Latn-CS" sz="2400" spc="-1" strike="noStrike">
                <a:solidFill>
                  <a:srgbClr val="333366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33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spcBef>
                <a:spcPts val="1225"/>
              </a:spcBef>
              <a:buClr>
                <a:srgbClr val="ff3333"/>
              </a:buClr>
              <a:buFont typeface="Times New Roman"/>
              <a:buChar char="•"/>
              <a:tabLst>
                <a:tab algn="l" pos="260280"/>
                <a:tab algn="l" pos="717480"/>
                <a:tab algn="l" pos="1174680"/>
                <a:tab algn="l" pos="1631880"/>
                <a:tab algn="l" pos="2089080"/>
                <a:tab algn="l" pos="2546280"/>
                <a:tab algn="l" pos="3003480"/>
                <a:tab algn="l" pos="3460680"/>
                <a:tab algn="l" pos="3917880"/>
                <a:tab algn="l" pos="4375080"/>
                <a:tab algn="l" pos="4832280"/>
                <a:tab algn="l" pos="5289480"/>
                <a:tab algn="l" pos="5746680"/>
                <a:tab algn="l" pos="6203880"/>
                <a:tab algn="l" pos="6661080"/>
                <a:tab algn="l" pos="7118280"/>
                <a:tab algn="l" pos="7575480"/>
                <a:tab algn="l" pos="8032680"/>
                <a:tab algn="l" pos="8489880"/>
                <a:tab algn="l" pos="8947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Постпримарна плућна ТБ (код деце &gt;10 год.)</a:t>
            </a:r>
            <a:r>
              <a:rPr b="0" lang="en-GB" sz="2400" spc="-1" strike="noStrike">
                <a:solidFill>
                  <a:srgbClr val="333366"/>
                </a:solidFill>
                <a:latin typeface="Times New Roman"/>
              </a:rPr>
              <a:t>  дир</a:t>
            </a:r>
            <a:r>
              <a:rPr b="0" lang="sr-Latn-CS" sz="2400" spc="-1" strike="noStrike">
                <a:solidFill>
                  <a:srgbClr val="333366"/>
                </a:solidFill>
                <a:latin typeface="Times New Roman"/>
              </a:rPr>
              <a:t>e</a:t>
            </a:r>
            <a:r>
              <a:rPr b="0" lang="en-GB" sz="2400" spc="-1" strike="noStrike">
                <a:solidFill>
                  <a:srgbClr val="333366"/>
                </a:solidFill>
                <a:latin typeface="Times New Roman"/>
              </a:rPr>
              <a:t>ктно негативна, или са кавернама директно позитивна  (категорија </a:t>
            </a:r>
            <a:r>
              <a:rPr b="0" lang="sr-Latn-CS" sz="2400" spc="-1" strike="noStrike">
                <a:solidFill>
                  <a:srgbClr val="333366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33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5000" indent="-135000">
              <a:lnSpc>
                <a:spcPct val="100000"/>
              </a:lnSpc>
              <a:spcBef>
                <a:spcPts val="1225"/>
              </a:spcBef>
              <a:buClr>
                <a:srgbClr val="ff3333"/>
              </a:buClr>
              <a:buFont typeface="Times New Roman"/>
              <a:buChar char="•"/>
              <a:tabLst>
                <a:tab algn="l" pos="260280"/>
                <a:tab algn="l" pos="717480"/>
                <a:tab algn="l" pos="1174680"/>
                <a:tab algn="l" pos="1631880"/>
                <a:tab algn="l" pos="2089080"/>
                <a:tab algn="l" pos="2546280"/>
                <a:tab algn="l" pos="3003480"/>
                <a:tab algn="l" pos="3460680"/>
                <a:tab algn="l" pos="3917880"/>
                <a:tab algn="l" pos="4375080"/>
                <a:tab algn="l" pos="4832280"/>
                <a:tab algn="l" pos="5289480"/>
                <a:tab algn="l" pos="5746680"/>
                <a:tab algn="l" pos="6203880"/>
                <a:tab algn="l" pos="6661080"/>
                <a:tab algn="l" pos="7118280"/>
                <a:tab algn="l" pos="7575480"/>
                <a:tab algn="l" pos="8032680"/>
                <a:tab algn="l" pos="8489880"/>
                <a:tab algn="l" pos="89470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Постпримарна ванплућна ТБ (</a:t>
            </a:r>
            <a:r>
              <a:rPr b="0" lang="en-GB" sz="2400" spc="-1" strike="noStrike">
                <a:solidFill>
                  <a:srgbClr val="002060"/>
                </a:solidFill>
                <a:latin typeface="Times New Roman"/>
              </a:rPr>
              <a:t>категорија </a:t>
            </a:r>
            <a:r>
              <a:rPr b="0" lang="sr-Latn-CS" sz="2400" spc="-1" strike="noStrike">
                <a:solidFill>
                  <a:srgbClr val="00206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2060"/>
                </a:solidFill>
                <a:latin typeface="Times New Roman"/>
              </a:rPr>
              <a:t> или </a:t>
            </a:r>
            <a:r>
              <a:rPr b="0" lang="sr-Latn-CS" sz="2400" spc="-1" strike="noStrike">
                <a:solidFill>
                  <a:srgbClr val="002060"/>
                </a:solidFill>
                <a:latin typeface="Times New Roman"/>
              </a:rPr>
              <a:t>III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5000" indent="0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260280"/>
                <a:tab algn="l" pos="717480"/>
                <a:tab algn="l" pos="1174680"/>
                <a:tab algn="l" pos="1631880"/>
                <a:tab algn="l" pos="2089080"/>
                <a:tab algn="l" pos="2546280"/>
                <a:tab algn="l" pos="3003480"/>
                <a:tab algn="l" pos="3460680"/>
                <a:tab algn="l" pos="3917880"/>
                <a:tab algn="l" pos="4375080"/>
                <a:tab algn="l" pos="4832280"/>
                <a:tab algn="l" pos="5289480"/>
                <a:tab algn="l" pos="5746680"/>
                <a:tab algn="l" pos="6203880"/>
                <a:tab algn="l" pos="6661080"/>
                <a:tab algn="l" pos="7118280"/>
                <a:tab algn="l" pos="7575480"/>
                <a:tab algn="l" pos="8032680"/>
                <a:tab algn="l" pos="8489880"/>
                <a:tab algn="l" pos="89470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http://t2.gstatic.com/images?q=tbn:ANd9GcTK-dW_4djoTS-dnA_ZFZ7BntVC8s-wuIFXi24JZdHcHi9EeR4D"/>
          <p:cNvPicPr/>
          <p:nvPr/>
        </p:nvPicPr>
        <p:blipFill>
          <a:blip r:embed="rId1"/>
          <a:stretch/>
        </p:blipFill>
        <p:spPr>
          <a:xfrm>
            <a:off x="0" y="1981080"/>
            <a:ext cx="2933640" cy="30942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743200" y="1938240"/>
            <a:ext cx="640080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С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акц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адржи  живе атенуисане сојеве бовиних ТБ бацила,који нису вирулент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је се путем интрадермалне ињекције на место где се делтоидни мишић припаја за надлактицу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око 5 цм испод рамена) и стимулише имун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ложена је од стране СЗО за давање новорођенчадима,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ради спречавања развијања тешких форми Т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99160" y="457200"/>
            <a:ext cx="801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РЕВЕНЦИЈА  ТУБЕРКУЛОЗЕ У ДЕЦ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ЕПИДЕМ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8686800" cy="579132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ко 1/3 светске популације је инфицирано с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ycobacterium tuberculosis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ваке године се јавља око 8,4 милиона нових случајева туберкулоз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од чега је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око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1 милoн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а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децe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ко 2 милиона људи умире од ње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(&gt; 400.000 дец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)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ycobacterium tuberculosis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бија више људи него било који други појединачни инфективни агенс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ваке секунде у свету  нова инфекција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 неразвијеним земљама после ХИВ-а најчешћи узрок смрти ( у Азији &gt; 50% ТБ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Број оболелих од туберкулозе у СРБИЈИ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*  2006. је износио 2800     * 2010. је износио 15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ахваљујући програму контроле туберкулозе у Србији , ДОТС (Међународно призната стратегија за ТБ контрол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елиминарни подаци за 2011. показују да је број оболелих у опадању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ЛЕКОВИ ЗА ЛЕЧЕЊЕ Т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6240"/>
                <a:gridCol w="4113360"/>
              </a:tblGrid>
              <a:tr h="73836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ОСНОВНИ Л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СКРАЋЕНИЦ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2523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ПОН ДОЗЕ мг/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ИМА СЕ СВАКОДНЕВ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3792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SONIAZID       ( H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-6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3972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IFAMPICIN      ( R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2523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-12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2523"/>
                    </a:solidFill>
                  </a:tcPr>
                </a:tc>
              </a:tr>
              <a:tr h="63972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YRAZINAMIDE ( Z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-30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4008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TREPOMYCIN  ( S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2523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-18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2523"/>
                    </a:solidFill>
                  </a:tcPr>
                </a:tc>
              </a:tr>
              <a:tr h="59040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THAMBUTOL    ( E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-20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39720"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OACETAZONE( 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2523"/>
                    </a:solidFill>
                  </a:tcPr>
                </a:tc>
                <a:tc>
                  <a:txBody>
                    <a:bodyPr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,5 mg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32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168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Times New Roman"/>
              </a:rPr>
              <a:t>Хемиопрофилак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103040"/>
            <a:ext cx="822960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Деца са ризиком за прогресију болести која су изложена смер позитивној ТБЦ, а која немају доказану ТБ инфекцију или болест (деца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3 год., ХИВ позитивна деца и новорођенчад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Деца изложена смер  позитивној ТБЦ, имају доказану инфекцију али не и болест (латентна инфекциј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66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dc2300"/>
                </a:solidFill>
                <a:latin typeface="Times New Roman"/>
              </a:rPr>
              <a:t>Isoniazid 6 месеци (9 месец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dc23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dc2300"/>
                </a:solidFill>
                <a:latin typeface="Times New Roman"/>
              </a:rPr>
              <a:t>Isoniazid + Rifampicin (3 месец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dc2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9008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sr-Latn-CS" sz="3400" spc="-1" strike="noStrike">
                <a:solidFill>
                  <a:srgbClr val="000000"/>
                </a:solidFill>
                <a:latin typeface="Times New Roman"/>
              </a:rPr>
              <a:t>ЖЕЉЕНА ДЕЈСТВА АНТИТУБЕРКУЛОЗНЕ ТЕРАПИЈ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омена боје телесних те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етљивост на су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лер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штећење 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епат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ериферна неуропат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овишена мокраћна кис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штећење ува,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Неопходно је током примене редовно контролисати биохемијске параметре (трансеминазе, ац.урицум, билирубин, уреа, креатинин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ЦИЉЕВИ ЛЕЧЕЊА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Placeholder 3"/>
          <p:cNvSpPr/>
          <p:nvPr/>
        </p:nvSpPr>
        <p:spPr>
          <a:xfrm>
            <a:off x="380880" y="228600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а излечи оболелог од Т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Да спречи умирање од активне ТБ или њених касних послед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Да спречи погоршање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Да смањи преношење ТБ на друге особ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Да спречи развој стечене резистенције на леков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82520" y="666720"/>
            <a:ext cx="8818560" cy="5262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14400" y="6058080"/>
            <a:ext cx="9115200" cy="371160"/>
          </a:xfrm>
          <a:prstGeom prst="rect">
            <a:avLst/>
          </a:prstGeom>
          <a:ln w="0">
            <a:noFill/>
          </a:ln>
        </p:spPr>
      </p:pic>
      <p:sp>
        <p:nvSpPr>
          <p:cNvPr id="56" name="Rechteck 4"/>
          <p:cNvSpPr/>
          <p:nvPr/>
        </p:nvSpPr>
        <p:spPr>
          <a:xfrm>
            <a:off x="0" y="6000840"/>
            <a:ext cx="914400" cy="2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5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РИЗИК ФАКТОРИ ЗА ТБЦ У </a:t>
            </a: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ОДРАСЛИХ И 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ДЕЦ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8680" indent="-328680">
              <a:lnSpc>
                <a:spcPts val="3835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Повећана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миграција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становниш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ts val="3835"/>
              </a:lnSpc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Социоекономски ризик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факто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ts val="3835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Пандемија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ХИВ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инфе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ts val="3835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Пораст </a:t>
            </a: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резистентних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сојева М. Тб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8680" indent="-328680">
              <a:lnSpc>
                <a:spcPts val="3835"/>
              </a:lnSpc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3200" spc="-1" strike="noStrike">
                <a:solidFill>
                  <a:srgbClr val="ff0000"/>
                </a:solidFill>
                <a:latin typeface="Times New Roman"/>
              </a:rPr>
              <a:t>Хроничне болести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: ИЗДМ, Малигне болести, малнутр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60" y="1066680"/>
            <a:ext cx="9372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ИЗВОР ЗАРАЗЕ је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</a:rPr>
              <a:t>оболела ос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Опасност од заразе је пропорционална броју бац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(у каверни -100 милиона бацила;у 1 капљици – 1до3 бацила;кашљем се избацује 3000 капљица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Хронично оболели – опасност од мултирезистент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оје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ндиректно преношење -у честицама праш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УЛАЗНА ВРАТА ИНФЕКЦИЈЕ 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лућа у 95 %; р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еђе преко ГИТ-а,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коже,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слузокоже или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транплацентарно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( екстремно ретко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283840" y="284040"/>
            <a:ext cx="62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ТИОЛОГИЈА И ПАТОГЕ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"/>
          <p:cNvPicPr/>
          <p:nvPr/>
        </p:nvPicPr>
        <p:blipFill>
          <a:blip r:embed="rId1"/>
          <a:stretch/>
        </p:blipFill>
        <p:spPr>
          <a:xfrm>
            <a:off x="378000" y="201600"/>
            <a:ext cx="4138560" cy="2906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571680" y="3071880"/>
            <a:ext cx="3786120" cy="2743200"/>
          </a:xfrm>
          <a:prstGeom prst="rect">
            <a:avLst/>
          </a:prstGeom>
          <a:ln w="57240">
            <a:solidFill>
              <a:srgbClr val="993300"/>
            </a:solidFill>
            <a:round/>
          </a:ln>
        </p:spPr>
      </p:pic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4498920" y="189000"/>
            <a:ext cx="4005360" cy="2992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4871880" y="3114720"/>
            <a:ext cx="3557880" cy="2743200"/>
          </a:xfrm>
          <a:prstGeom prst="rect">
            <a:avLst/>
          </a:prstGeom>
          <a:ln w="57240">
            <a:solidFill>
              <a:srgbClr val="7575d1"/>
            </a:solidFill>
            <a:round/>
          </a:ln>
        </p:spPr>
      </p:pic>
      <p:sp>
        <p:nvSpPr>
          <p:cNvPr id="65" name="Rectangle 5"/>
          <p:cNvSpPr/>
          <p:nvPr/>
        </p:nvSpPr>
        <p:spPr>
          <a:xfrm>
            <a:off x="571680" y="6000840"/>
            <a:ext cx="8001000" cy="6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Latn-CS" sz="2400" spc="-1" strike="noStrike">
                <a:solidFill>
                  <a:srgbClr val="ff0066"/>
                </a:solidFill>
                <a:latin typeface="Times New Roman"/>
                <a:ea typeface="Arial Unicode MS"/>
              </a:rPr>
              <a:t>M.Tuberculosis complex</a:t>
            </a:r>
            <a:r>
              <a:rPr b="1" lang="sr-Latn-CS" sz="2400" spc="-1" strike="noStrike">
                <a:solidFill>
                  <a:srgbClr val="16165d"/>
                </a:solidFill>
                <a:latin typeface="Times New Roman"/>
                <a:ea typeface="Arial Unicode MS"/>
              </a:rPr>
              <a:t>:</a:t>
            </a:r>
            <a:r>
              <a:rPr b="1" i="1" lang="sr-Latn-CS" sz="2400" spc="-1" strike="noStrike">
                <a:solidFill>
                  <a:srgbClr val="16165d"/>
                </a:solidFill>
                <a:latin typeface="Times New Roman"/>
                <a:ea typeface="Arial Unicode MS"/>
              </a:rPr>
              <a:t> </a:t>
            </a:r>
            <a:r>
              <a:rPr b="1" lang="sr-Latn-CS" sz="2400" spc="-1" strike="noStrike">
                <a:solidFill>
                  <a:srgbClr val="16165d"/>
                </a:solidFill>
                <a:latin typeface="Times New Roman"/>
                <a:ea typeface="Arial Unicode MS"/>
              </a:rPr>
              <a:t>M. Tbc (Kohov bacil); M.bovis, </a:t>
            </a:r>
            <a:r>
              <a:rPr b="1" lang="sr-CS" sz="2400" spc="-1" strike="noStrike">
                <a:solidFill>
                  <a:srgbClr val="16165d"/>
                </a:solidFill>
                <a:latin typeface="Times New Roman"/>
              </a:rPr>
              <a:t> ређе:     </a:t>
            </a:r>
            <a:r>
              <a:rPr b="1" lang="sr-Latn-CS" sz="2400" spc="-1" strike="noStrike">
                <a:solidFill>
                  <a:srgbClr val="16165d"/>
                </a:solidFill>
                <a:latin typeface="Times New Roman"/>
                <a:ea typeface="Arial Unicode MS"/>
              </a:rPr>
              <a:t>M. Africanum, M. Microti, M.canett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ИМAРНA ИНФЕКЦИЈA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се дешaвa код прве експозиције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M.tubercуlosiс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(1- 5 бацила довољно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МБ- избегaвaју мукоцилијaрну бaријеру плућа и брзо се населе у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терминалним алвeолама плућа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нфeкција крећe када бацили почну да сe размножавaју у плућим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Потом се преко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имфног системa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шире у хилусе 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лимфне жлез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66ff"/>
                </a:solidFill>
                <a:latin typeface="Times New Roman"/>
              </a:rPr>
              <a:t>ПНЕУМОНИЧНО ЖАРИШТЕ - </a:t>
            </a:r>
            <a:r>
              <a:rPr b="1" lang="en-GB" sz="2000" spc="-1" strike="noStrike">
                <a:solidFill>
                  <a:srgbClr val="333366"/>
                </a:solidFill>
                <a:latin typeface="Arial"/>
              </a:rPr>
              <a:t>Ghonov fokus</a:t>
            </a:r>
            <a:r>
              <a:rPr b="1" lang="sr-Latn-CS" sz="2000" spc="-1" strike="noStrike">
                <a:solidFill>
                  <a:srgbClr val="33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66ff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+  ЛИМФАНГИТИС + </a:t>
            </a:r>
            <a:r>
              <a:rPr b="1" lang="sr-CS" sz="2400" spc="-1" strike="noStrike">
                <a:solidFill>
                  <a:srgbClr val="21837a"/>
                </a:solidFill>
                <a:latin typeface="Times New Roman"/>
              </a:rPr>
              <a:t>ЛИМФАДЕНИТ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21837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ПРИМАРНИ КОМПЛЕКС - </a:t>
            </a:r>
            <a:r>
              <a:rPr b="1" lang="en-GB" sz="2000" spc="-1" strike="noStrike">
                <a:solidFill>
                  <a:srgbClr val="dc2300"/>
                </a:solidFill>
                <a:latin typeface="Arial"/>
              </a:rPr>
              <a:t>Ghonov (Rankeov) kompl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У инфицираним органима бацили могу путем </a:t>
            </a:r>
            <a:r>
              <a:rPr b="1" lang="sr-CS" sz="2000" spc="-1" strike="noStrike">
                <a:solidFill>
                  <a:srgbClr val="ff0000"/>
                </a:solidFill>
                <a:latin typeface="Times New Roman"/>
              </a:rPr>
              <a:t>крви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да се прош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ЦЕЛИМ ТЕЛО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293120" y="380880"/>
            <a:ext cx="624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ЕТИОЛОГИЈА И ПАТОГЕ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ТИОЛОГИЈА И ПАТОГЕН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257800"/>
          </a:xfrm>
          <a:prstGeom prst="rect">
            <a:avLst/>
          </a:prstGeom>
          <a:blipFill rotWithShape="0">
            <a:blip r:embed="rId1"/>
            <a:stretch/>
          </a:blipFill>
          <a:ln w="57240">
            <a:solidFill>
              <a:srgbClr val="ddf3ea"/>
            </a:solidFill>
            <a:round/>
          </a:ln>
        </p:spPr>
        <p:txBody>
          <a:bodyPr anchor="t">
            <a:normAutofit/>
          </a:bodyPr>
          <a:p>
            <a:pPr marL="343080" indent="0" algn="ctr">
              <a:lnSpc>
                <a:spcPct val="5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risnik</cp:lastModifiedBy>
  <dcterms:modified xsi:type="dcterms:W3CDTF">2020-09-29T14:09:12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