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907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О ТЕЛО РЕСПИРАТОРНОГ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ТРАКТА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2178000" y="4724280"/>
            <a:ext cx="43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</a:rPr>
              <a:t>Проф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. др Гордана Кости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АТЕЛЕКТ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336139-405994-6000"/>
          <p:cNvPicPr/>
          <p:nvPr/>
        </p:nvPicPr>
        <p:blipFill>
          <a:blip r:embed="rId1"/>
          <a:stretch/>
        </p:blipFill>
        <p:spPr>
          <a:xfrm>
            <a:off x="685800" y="1600200"/>
            <a:ext cx="379728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5334120" y="1981080"/>
            <a:ext cx="3352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6 год.дечак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– 2 ме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Бол у грудима и дисфагија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ТГ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електаза левог плућног крила 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Б извађено 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85640" y="831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9999"/>
                </a:solidFill>
                <a:latin typeface="Arial"/>
              </a:rPr>
              <a:t>НЕТРАНСПАРЕНТНА СТРАН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a05img1a"/>
          <p:cNvPicPr/>
          <p:nvPr/>
        </p:nvPicPr>
        <p:blipFill>
          <a:blip r:embed="rId1"/>
          <a:stretch/>
        </p:blipFill>
        <p:spPr>
          <a:xfrm>
            <a:off x="533520" y="3581280"/>
            <a:ext cx="2361960" cy="252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a05img03"/>
          <p:cNvPicPr/>
          <p:nvPr/>
        </p:nvPicPr>
        <p:blipFill>
          <a:blip r:embed="rId2"/>
          <a:stretch/>
        </p:blipFill>
        <p:spPr>
          <a:xfrm>
            <a:off x="5486400" y="3429000"/>
            <a:ext cx="2266920" cy="31338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1145520" y="2971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менчи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307440" y="1676520"/>
            <a:ext cx="49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дојче женског пола 9 мес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чена као пнеумониј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 је било прво у десном а затим у лев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ронх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730040" y="1752480"/>
            <a:ext cx="410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ечак узраста 5 го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ва 3 сата без тегоба а затим Р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5947200" y="2819520"/>
            <a:ext cx="126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слин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udio 1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Int J Med Sci Image"/>
          <p:cNvPicPr/>
          <p:nvPr/>
        </p:nvPicPr>
        <p:blipFill>
          <a:blip r:embed="rId1"/>
          <a:stretch/>
        </p:blipFill>
        <p:spPr>
          <a:xfrm>
            <a:off x="2133720" y="1447920"/>
            <a:ext cx="4829040" cy="4370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362520" y="6018840"/>
            <a:ext cx="88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ki N, Nikakhlag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Rahim F, Abshirini H. Foreign body aspirations in Infancy: a 20-year exper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 J Med Sci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9; 6(6):322-328.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1145160" y="50292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реза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7088400" y="5334120"/>
            <a:ext cx="118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Део зуб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42120" y="182880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заврта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689400" y="18288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пиштаљ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1514880" y="903240"/>
            <a:ext cx="606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ТРАНСПАРЕНТНА СТРАНА ТЕЛА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ТРАНСПАРЕНТНА СТРАН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890106.fig.001"/>
          <p:cNvPicPr/>
          <p:nvPr/>
        </p:nvPicPr>
        <p:blipFill>
          <a:blip r:embed="rId1"/>
          <a:stretch/>
        </p:blipFill>
        <p:spPr>
          <a:xfrm>
            <a:off x="380880" y="3048120"/>
            <a:ext cx="403884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5"/>
          <p:cNvSpPr/>
          <p:nvPr/>
        </p:nvSpPr>
        <p:spPr>
          <a:xfrm>
            <a:off x="611640" y="18288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Део са пирсинга  језика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У главном левом бронху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ANd9GcQ1_dChiJlD7WYtG_z_o8zsfPNMHaCwiGM8dQKjc_FXxw6R5sJT7Q"/>
          <p:cNvPicPr/>
          <p:nvPr/>
        </p:nvPicPr>
        <p:blipFill>
          <a:blip r:embed="rId2"/>
          <a:stretch/>
        </p:blipFill>
        <p:spPr>
          <a:xfrm>
            <a:off x="5029200" y="3048120"/>
            <a:ext cx="3200400" cy="3066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5257800" y="1981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Легго коцкица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У главном левом бронху 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udio 1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gusenje07"/>
          <p:cNvPicPr/>
          <p:nvPr/>
        </p:nvPicPr>
        <p:blipFill>
          <a:blip r:embed="rId1"/>
          <a:stretch/>
        </p:blipFill>
        <p:spPr>
          <a:xfrm>
            <a:off x="793800" y="2997360"/>
            <a:ext cx="7556400" cy="31240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-108000" y="1125360"/>
            <a:ext cx="96836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ТЕРАПИЈА СТРАНОГ ТЕЛА У ДИСАЈНИМ ПУТЕВИМА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КОД ОДОЈЧ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ЗАХВАТ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: дете главом на до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ксималним крајем длана удари се чврсто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између лопатица 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5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 чврсто се са два прста притисне на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доњи крај стернума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000" spc="-1" strike="noStrike">
                <a:solidFill>
                  <a:srgbClr val="ff0000"/>
                </a:solidFill>
                <a:latin typeface="Arial"/>
              </a:rPr>
              <a:t>Серије ударца се понављају – док се не уклони С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Дете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1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Heimlich ( Хаимлих)-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ов зах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9999"/>
                </a:solidFill>
                <a:latin typeface="Arial"/>
                <a:ea typeface="Arial"/>
              </a:rPr>
              <a:t>СВЕСН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д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Иза детета које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стоји или сед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Рукама се обухвати </a:t>
            </a: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епигастрију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и притисне снаж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  <a:ea typeface="Arial"/>
              </a:rPr>
              <a:t>4x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.(ваздух из желуца може избацити СТ из ларинкс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000" spc="-1" strike="noStrike">
                <a:solidFill>
                  <a:srgbClr val="009999"/>
                </a:solidFill>
                <a:latin typeface="Arial"/>
                <a:ea typeface="Arial"/>
              </a:rPr>
              <a:t>НЕСВЕС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Притисак трбух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у пределу епигастријума док је дете у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лежеће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 полажа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гледа се да ли присутно СТ и вади 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Понављање у комбинацији са вештачким дисањем 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0000"/>
                </a:solidFill>
                <a:latin typeface="Arial"/>
                <a:ea typeface="Arial"/>
              </a:rPr>
              <a:t>Парцијална опструкција СТ- пустити да спонтано кашљ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Audio 2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  <a:ea typeface="Arial"/>
              </a:rPr>
              <a:t>Heimlich ( Haimlih)-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  <a:ea typeface="Arial"/>
              </a:rPr>
              <a:t> ov zahv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ANd9GcS-4QjnxahfgerIryJ_SglsvbtB3VkJHyrrYnFL-lM53NGK8dSY"/>
          <p:cNvPicPr/>
          <p:nvPr/>
        </p:nvPicPr>
        <p:blipFill>
          <a:blip r:embed="rId1"/>
          <a:stretch/>
        </p:blipFill>
        <p:spPr>
          <a:xfrm>
            <a:off x="1143000" y="1989000"/>
            <a:ext cx="6324480" cy="46483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6172200" y="6019920"/>
            <a:ext cx="129528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ff"/>
              </a:solidFill>
              <a:latin typeface="Arial"/>
            </a:endParaRPr>
          </a:p>
        </p:txBody>
      </p:sp>
      <p:pic>
        <p:nvPicPr>
          <p:cNvPr id="104" name="Picture 4" descr="G- 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8600" y="2057400"/>
            <a:ext cx="4724280" cy="39625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05" name="Picture 5" descr="G- 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334120" y="2057400"/>
            <a:ext cx="3246480" cy="4114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06" name="Line 6"/>
          <p:cNvSpPr/>
          <p:nvPr/>
        </p:nvSpPr>
        <p:spPr>
          <a:xfrm>
            <a:off x="1600200" y="3733920"/>
            <a:ext cx="304920" cy="228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7620120" y="3200400"/>
            <a:ext cx="38088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udio 1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776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AK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</a:rPr>
              <a:t>ЉУЧАК</a:t>
            </a:r>
            <a:br>
              <a:rPr sz="3200"/>
            </a:b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АСПИРАЦИЈА СТРАНОГ ТЕЛА У 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г. у највећем ризику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вака епизода ,,задављивања,,- сумња на аспирацију страног тела !!!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Нормалан физикални налаз и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RTG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грудног коша – не искључују аспирацију страног тела !!!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Вађење страног тела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je 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ни третман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пидемиологиј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ста у деце до 3 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старија одојчад – до 3 год у 73 %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тиологија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гестија а затим аспирација најчешће страних тела  органске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(коштуњичаво воће најчешће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ијагноза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иничке манифес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зитивна анамн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шење или кашаљ са визингом нагло наста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нзумирање коштуњичавог во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линичке манифес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мплетна опструкција – најозбиљниј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узроковачи: храна, бомбо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ененадни РД код свесног детета, немогућност говора и кашљ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Симптоми- 3 стадијума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1. Иницијални догађај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- од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пароксизмални кашаљ,гушење и опструкција дисјаног пута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2. Асимптоматски интервал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због рефлексног замор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3. Компликациј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(опструкције,ерозије,инфекције,пнеумоније,ателектаза-поново симптом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окализ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1. Ларингеална страна тел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сфиксија; стридор;симптом крупа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х : Хајмлихов манев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2. Трахеална страна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ушење,стридор,визинг ; РТГ меких ткива врата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3. Бронхална страна 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шаљ,визинг ; емфизем или ателек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ТС: клаћење медијастин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Транспарентна и нетранспарентна ст.т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НА ТЕЛА У ДИСАЈНИМ ПУТЕВ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линичка слик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 од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еличин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локализације ст.т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а – нагло гушење,см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а – оклузија трахеје или бронха – визинг,пароксизмални каша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узетно мала- симптоми после 2-3 нед,кашаљ,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окализ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њи и доњи десни лобус – због карактеристике гл.десног бронха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Audio 1" descr=""/>
          <p:cNvPicPr/>
          <p:nvPr/>
        </p:nvPicPr>
        <p:blipFill>
          <a:blip r:embed="rId1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ИОЛОШКЕ  МЕТ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Транспарентно СТ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о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Нетранспарентно СТ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индирект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1" lang="sr-CS" sz="2400" spc="-1" strike="noStrike">
                <a:solidFill>
                  <a:srgbClr val="009999"/>
                </a:solidFill>
                <a:latin typeface="Arial"/>
              </a:rPr>
              <a:t>АСИМЕТР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физ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елект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877640" y="6172200"/>
            <a:ext cx="39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ang W,et al (2012) J Pediatr S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udio 1" descr=""/>
          <p:cNvPicPr/>
          <p:nvPr/>
        </p:nvPicPr>
        <p:blipFill>
          <a:blip r:embed="rId3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10080" y="2057400"/>
            <a:ext cx="3733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9999"/>
                </a:solidFill>
                <a:latin typeface="Arial"/>
              </a:rPr>
              <a:t>12 мес. деча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2 ме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wheezing</a:t>
            </a:r>
            <a:br>
              <a:rPr sz="2400"/>
            </a:b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ТГ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емна инфлација десног хемиторакса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Б извађено кукурузно зрно из главног десног брон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336139-405994-5998"/>
          <p:cNvPicPr/>
          <p:nvPr/>
        </p:nvPicPr>
        <p:blipFill>
          <a:blip r:embed="rId1"/>
          <a:stretch/>
        </p:blipFill>
        <p:spPr>
          <a:xfrm>
            <a:off x="228600" y="1295280"/>
            <a:ext cx="503244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2060280" y="60199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31480" y="372960"/>
            <a:ext cx="374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Заробљавање ваздуха 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мфиз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Audio 1" descr=""/>
          <p:cNvPicPr/>
          <p:nvPr/>
        </p:nvPicPr>
        <p:blipFill>
          <a:blip r:embed="rId2"/>
          <a:stretch/>
        </p:blipFill>
        <p:spPr>
          <a:xfrm>
            <a:off x="8318520" y="6032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Korisnik</cp:lastModifiedBy>
  <dcterms:modified xsi:type="dcterms:W3CDTF">2020-09-29T14:46:30Z</dcterms:modified>
  <cp:revision>90</cp:revision>
  <dc:subject/>
  <dc:title>Slide 1</dc:title>
</cp:coreProperties>
</file>